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AE2-9C5B-404B-84AD-4BB88290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8FF-A964-4D67-8E02-2931E017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48D-03E2-49EA-9275-DA429338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862-65FA-4E20-8AD1-AB061EFA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D654-D9A4-4075-9A9B-36DEE188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C05E-70FB-47DA-B7E0-B21A562E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61C0-5776-4726-AEE5-C47FF8FC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5CE0-2F36-4BDE-BDBC-7FC4084E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097F-59BF-4879-98F9-488E813B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7A67-42BB-4666-BBE1-6BE9EC56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A5DB-2BA9-4E86-A4D6-758FB061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9B1-2A25-432C-A0A6-B1FAE1E7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6316-DB6E-426F-B4EA-2DC30833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6D96-550D-4FD2-AC98-464C7C7A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9DAC-19E2-42C2-87E8-9C7CDF3E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4C02-789C-4822-9C26-2EB2747F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B484-D386-4A8B-A49F-917C7681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309D-B83D-45B5-AC6C-29914092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83F0-812F-4399-BBEC-FA7A1FD8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C43A-B62F-40A8-AD86-6DEC21E5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F3F3-BCBB-4DD8-8A83-FA572C82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3EFB-C4EB-4BA9-91C4-B0AC238A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D6C-0D45-4F5F-9D34-87A1ECD9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8F7F-0726-4B15-9227-6A6F13FC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3031-39DC-45E1-BBFD-B5D833BB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79D1E-D930-438A-97F7-71590CAD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5E19-146E-4F54-A650-7856E296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4ACB-6681-443F-B113-B71A9C45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85E0-25B0-4069-BA96-5A875785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F1B3-E015-408E-B55B-72E05A9C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3569B-CC38-4972-811C-9DF6F53D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DA4F-D262-4D5B-9847-131D0EC1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5FF5-1003-421D-908B-F46E9AB6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85A-E5BF-4DB2-BF93-C5B10493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02CDE-EC8E-4714-A094-86D71765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21D5-6976-4292-9C70-650D8EA5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5D235-842F-4B98-8B13-134671F9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6E2A-537A-4AEA-A9AA-C2798D3F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5299-5D5D-4350-AD44-F8DCC94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4B86-F2E0-41BD-B120-E939DE53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BDB2-6499-4F36-9AA0-BEAC3DC0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2E66-2E2B-4091-90C5-708C4EA8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71AF-8EFC-4A6B-B533-049B85D0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E59-25CD-41A8-BE15-38D67861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E4C-3E76-4C5F-B29F-959B19B8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FCC-E64D-40CD-B98E-4B6748F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322-452B-48F5-9784-1DF30D0B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F70-058B-409B-A685-0AE8D872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3018-D7B1-4DDF-A8C6-DD4D275D5CA5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AB09-013D-4241-9DA5-2BF6F5D4FC92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BA05-3001-4A78-BD64-2FF24BDD433C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0EA0-421C-4B40-AF26-067DBC92E08C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4617b"/>
                </a:solidFill>
                <a:latin typeface="Calibri"/>
              </a:rPr>
              <a:t>Develop a workplace  learning </a:t>
            </a:r>
            <a:r>
              <a:rPr b="1" lang="en-AU" sz="2800" spc="-1" strike="noStrike">
                <a:solidFill>
                  <a:srgbClr val="04617b"/>
                </a:solidFill>
                <a:latin typeface="Calibri"/>
              </a:rPr>
              <a:t>environmen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Lesson 1 –  18 July 201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Placeholder 6" descr="arch_gilliandunlop,0.jpg"/>
          <p:cNvPicPr/>
          <p:nvPr/>
        </p:nvPicPr>
        <p:blipFill>
          <a:blip r:embed="rId1"/>
          <a:srcRect l="0" t="7359" r="0" b="735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AREAS TO BE EVALUAT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rogram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resent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y traine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y observ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raine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ttitu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C:\Program Files\Common Files\Microsoft Shared\Clipart\cagcat50\bd06784_.wmf"/>
          <p:cNvPicPr/>
          <p:nvPr/>
        </p:nvPicPr>
        <p:blipFill>
          <a:blip r:embed="rId1"/>
          <a:stretch/>
        </p:blipFill>
        <p:spPr>
          <a:xfrm>
            <a:off x="4572000" y="2590920"/>
            <a:ext cx="3200400" cy="29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AREAS EVALUATED </a:t>
            </a:r>
            <a:r>
              <a:rPr b="1" lang="en-AU" sz="24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continu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n-the-Job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ehavio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ac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cillar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C:\Program Files\Common Files\Microsoft Shared\Clipart\cagcat50\bd06790_.wmf"/>
          <p:cNvPicPr/>
          <p:nvPr/>
        </p:nvPicPr>
        <p:blipFill>
          <a:blip r:embed="rId1"/>
          <a:stretch/>
        </p:blipFill>
        <p:spPr>
          <a:xfrm>
            <a:off x="4572000" y="2819520"/>
            <a:ext cx="3040200" cy="25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8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mall group activit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 micro training sess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 one of the following top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rformance manag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muneration manag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stomer servi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ruitment &amp; Sele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lling a produc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e a 5 minut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ic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ining session based on the above top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some of the principles and techniques outlined in the theoretical component of today’s les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303200" y="3808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ahoma"/>
              </a:rPr>
              <a:t>Training and Develop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002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2600" y="2214360"/>
            <a:ext cx="7805880" cy="45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mployee training has become increasingly important as jobs have become more sophisticated &amp; influenced by technological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raining is a learning experience that seeks a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relatively permanent change in an individual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that will improve their ability to perfor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rganisations get outputs because people perform tasks to a desired standar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efore employees can perform their tasks properly, they must master the special technology used by the organis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Training is the acquisition of the technology which permits employees to perform to a standar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Constantia"/>
              </a:rPr>
              <a:t>1/3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velop a workplace learning environment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related to the present jo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mphasises personal growth &amp; impro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nstanti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osely related to development) Broader implications &amp; applications - does not concentrate upon learning or acquisition of particular ski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90720" y="22860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 organisation’s training needs should cons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he following 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are the orga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ation’s goals and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tasks must be completed to achieve these goa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behaviours are necessary for each job employee to carry out their jo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deficiencies, if any, do employees have in skills, knowledge or attitudes requires to perform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he necessary behavi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ining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n effective training programme should b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ith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is enhanced when the learner is motiv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requires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inforcement increases the likelihoo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behaviour is repe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act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 increases learners perform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earning begins rapidly then platea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arning must be transferable to the jo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ining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ormal training methods can be classified a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n-the-jo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. apprentices, rotation, instruction 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ff-the-jo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. lectures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ferences, films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imulations et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raining EVALUATION method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reactions of participants or manag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test-retest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re-post performance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incremental-control meth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4617b"/>
                </a:solidFill>
                <a:latin typeface="Calibri"/>
              </a:rPr>
              <a:t>TRAINING METHODOLOGI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Modified le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Role-pla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uzz Grou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rogrammed I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4572000" y="2895480"/>
            <a:ext cx="3746520" cy="212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LEVELS OF 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ehavio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C:\WINDOWS\Application Data\Microsoft\Media Catalog\Downloaded Clips\cl4f\j0198609.wmf"/>
          <p:cNvPicPr/>
          <p:nvPr/>
        </p:nvPicPr>
        <p:blipFill>
          <a:blip r:embed="rId1"/>
          <a:stretch/>
        </p:blipFill>
        <p:spPr>
          <a:xfrm>
            <a:off x="3886200" y="2286000"/>
            <a:ext cx="4114800" cy="368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1:03:26Z</dcterms:created>
  <dc:creator>John McDonald</dc:creator>
  <dc:description/>
  <dc:language>en-US</dc:language>
  <cp:lastModifiedBy>User</cp:lastModifiedBy>
  <dcterms:modified xsi:type="dcterms:W3CDTF">2011-07-17T06:29:08Z</dcterms:modified>
  <cp:revision>8</cp:revision>
  <dc:subject/>
  <dc:title>Training &amp; Development</dc:title>
</cp:coreProperties>
</file>